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benefits of electronic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from home/ on holidays / during absences /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building partners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t during other strands/top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744B-3182-4B94-B4F2-82F84CEE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805E-5305-406D-83AF-1C5C83B62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3E22-E9E5-4D1A-9B37-68E25C966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6B4D-0849-4916-A2F2-D6470C4400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5D7F-2CE3-475A-8E8C-0F4CB0D31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0D73-C304-4AF9-A213-3A6C3946B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4957-4EA8-4493-977F-50D6068C6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7BE6-2071-45D6-94DC-351A934D1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149E-0A48-4DE2-A58A-50631C13C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D1F4-B541-4B52-A285-6C1778AF5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47B9-1D42-4717-AFBF-D58612E3D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098F-E64F-498B-A4D6-E413C4672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195-C67C-45C9-ABD1-F9B6E62248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fn_vAhu_Lw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ains-camppp.wikispaces.com/file/view/Learning+Walls+Article.pd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C871-7BBC-406F-B28E-4FE88299E3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4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ou Kes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Home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s return to hom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FD4A-35AC-4C74-B7FD-4657586DA4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4816800" y="2140200"/>
            <a:ext cx="3575520" cy="3617640"/>
            <a:chOff x="4816800" y="2140200"/>
            <a:chExt cx="3575520" cy="3617640"/>
          </a:xfrm>
        </p:grpSpPr>
        <p:sp>
          <p:nvSpPr>
            <p:cNvPr id="85" name="Right Arrow Callout 4"/>
            <p:cNvSpPr/>
            <p:nvPr/>
          </p:nvSpPr>
          <p:spPr>
            <a:xfrm rot="809400">
              <a:off x="4955760" y="3015360"/>
              <a:ext cx="1341000" cy="1351440"/>
            </a:xfrm>
            <a:prstGeom prst="rightArrowCallout">
              <a:avLst>
                <a:gd name="adj1" fmla="val 25197"/>
                <a:gd name="adj2" fmla="val 25195"/>
                <a:gd name="adj3" fmla="val 25000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Down Arrow Callout 5"/>
            <p:cNvSpPr/>
            <p:nvPr/>
          </p:nvSpPr>
          <p:spPr>
            <a:xfrm rot="809400">
              <a:off x="6167160" y="2277720"/>
              <a:ext cx="1341000" cy="1351440"/>
            </a:xfrm>
            <a:prstGeom prst="downArrowCallout">
              <a:avLst>
                <a:gd name="adj1" fmla="val 25002"/>
                <a:gd name="adj2" fmla="val 25000"/>
                <a:gd name="adj3" fmla="val 25195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eft Arrow Callout 6"/>
            <p:cNvSpPr/>
            <p:nvPr/>
          </p:nvSpPr>
          <p:spPr>
            <a:xfrm rot="809400">
              <a:off x="6912000" y="3484800"/>
              <a:ext cx="1341000" cy="1351440"/>
            </a:xfrm>
            <a:prstGeom prst="leftArrowCallout">
              <a:avLst>
                <a:gd name="adj1" fmla="val 25197"/>
                <a:gd name="adj2" fmla="val 25195"/>
                <a:gd name="adj3" fmla="val 25000"/>
                <a:gd name="adj4" fmla="val 649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Up Arrow Callout 7"/>
            <p:cNvSpPr/>
            <p:nvPr/>
          </p:nvSpPr>
          <p:spPr>
            <a:xfrm rot="809400">
              <a:off x="5689800" y="4268520"/>
              <a:ext cx="1341000" cy="1351440"/>
            </a:xfrm>
            <a:prstGeom prst="upArrowCallout">
              <a:avLst>
                <a:gd name="adj1" fmla="val 25002"/>
                <a:gd name="adj2" fmla="val 25000"/>
                <a:gd name="adj3" fmla="val 25195"/>
                <a:gd name="adj4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20920" y="152280"/>
            <a:ext cx="59230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evernote.com/schoo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tructions for creating a portfolio using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blog.evernote.com/2012/02/28/how-to-create-a-portfolio-with-evernote-education-seri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BF0-B352-45A1-8DCE-F58C12253E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ilding a Learning Wall/Portfoli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may work electronically or 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sible op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Prezi / Pap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Math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pdate/Beautify our class Learning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3E9-BCCA-4168-8C0E-4875BE9C41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ulate and explore each oth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brief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70A1-A73B-456E-AD24-6A1948D182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6512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Assessment of Learning as a continuous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learning walls and portfolios as an opportunity for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portfolios and learning wall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EEEA-E54D-49DB-84E2-54568222C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8A05-4162-48A6-B7CD-D989B90F06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ide 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wo circles - one insid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on the inside face participants in the outs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in the outside circle will rotate according to facilitato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the prompt with the person acros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95CF-3775-4086-A6EA-7B8DD32E6F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nut 4"/>
          <p:cNvSpPr/>
          <p:nvPr/>
        </p:nvSpPr>
        <p:spPr>
          <a:xfrm>
            <a:off x="6705720" y="304920"/>
            <a:ext cx="1218960" cy="12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888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E5B6-069E-4BDE-A5EB-A5731A4917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athLearningWall"/>
          <p:cNvPicPr/>
          <p:nvPr/>
        </p:nvPicPr>
        <p:blipFill>
          <a:blip r:embed="rId1"/>
          <a:stretch/>
        </p:blipFill>
        <p:spPr>
          <a:xfrm>
            <a:off x="-76320" y="304920"/>
            <a:ext cx="915696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5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68120" y="304920"/>
            <a:ext cx="9235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ed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ins-camppp.wikispaces.com/file/view/Learning%2BWalls%2BArtic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B6F0-D22C-46F3-8D0B-0A50717C75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4800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648320"/>
            <a:ext cx="8229600" cy="146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9C84-BF00-4A5C-BAF3-5AC78DA2ED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5CB-19E6-4F03-A778-FBB019B7CF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 rot="1060800">
            <a:off x="5618160" y="740880"/>
            <a:ext cx="2890800" cy="3329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149400" y="144792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 assessment purposes, a portfolio can be defined as "a purposeful collection of student performances that exhibits a student's effort, progress and achievement over a period of ti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Hibbard et al, 1996, p. 18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Expert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groups of 5 (this is your home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from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s meet with ones, twos with tw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your expert group read and discusses assigned section from the Saskatchewan Professional Development Uni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rtfolios: More Than Just a Folder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440-CA1A-4B61-BD5E-6C01DA5F9D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23:01:59Z</dcterms:created>
  <dc:creator>CSC</dc:creator>
  <dc:description/>
  <dc:language>en-US</dc:language>
  <cp:lastModifiedBy>Kathy Kubota-Zarivnij</cp:lastModifiedBy>
  <dcterms:modified xsi:type="dcterms:W3CDTF">2012-08-22T23:49:10Z</dcterms:modified>
  <cp:revision>38</cp:revision>
  <dc:subject/>
  <dc:title>&lt;Title&gt;</dc:title>
</cp:coreProperties>
</file>